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576C-E0C0-477F-9E8E-039795AC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3B8A-C5E0-434D-AD15-0BD4D625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CDB4-E2BF-469B-A87F-8A952DD4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1EF-716C-4445-968B-B711FA12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F75E-12BE-4A81-A279-408D1F75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5D84-6F30-4900-9287-E7274689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83C7-6876-4456-B5F9-CA237A7D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F8C1-8155-435D-AFE6-C6356E7B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5EE6-2D05-4F8F-B43A-7351C74E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B436-FAB7-49F7-89B2-1C75F891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F291-E06F-44D3-B4C9-C91123B3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CC3A-CD53-4562-AE46-D8D17C54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F592-8957-446E-BCC8-6589FA56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544F-1AFC-40A6-BDDF-3F055B70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9422-82CA-4306-A240-D698166F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4789-BBD3-4157-BE08-F45C61B5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917F-E4CD-442C-9618-381CD4F3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0A3BE-DE6C-44D5-B88C-624A8FD2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EF5CE-7EB9-4688-9A50-A92AC318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79C7C-719B-4860-9E79-9A4E0F68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7B6C6-58EE-49BE-AB0D-2DAF09EC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32577-7B33-478C-988A-D04DE597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0915-377E-4D9E-999F-B6B16390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11977-1640-4BF3-B926-66EDB7C7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0DF3C-8669-4D24-84CB-911B907F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D61F1-F8A9-48DA-9D8F-749068E3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148E3-7B12-4DDA-A32B-BF798E95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C13A5-E2EC-4D6F-ADEE-D430C391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09303-DB02-4D30-AD1A-D4E30373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B3BFD-D27B-4D6F-AC93-5A6E1697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5D8EE-5BE8-4D0A-AE0B-E0E60683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C101D-8647-4C67-887D-95BF2E7B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F5273-7235-4C1B-BB49-D552569B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5BC-F71F-4BE3-9B91-B6D72A5E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57430-E527-4356-9F0C-33153C87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21D09-8CFA-4573-8B2A-65891ADA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FA1FF-83D2-4167-9B2E-DEEFA283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FE62D-D62F-424B-B185-7A4CCB1E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05711-FDBB-41E7-95E1-60A6252D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42162-7D8B-46FE-A321-419F64BB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A7318-16E7-4BE7-9090-2E0B7154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DFC67-89A3-4E61-8333-2BB495C8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61B6B-40BA-40B1-8000-94CC31DB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627C-DF62-4D73-B687-BE4C8070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ACB6-923C-4EF4-9FA7-0C2CDE9A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E6D6-77FC-423E-9293-DA11F766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43D2-B479-498F-B283-62D856E3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9188-ABCC-4C9F-AD75-4AECC1C7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45C3-8ABE-435E-BB58-505C5062F1BD}" type="slidenum">
              <a:rPr b="0" lang="ru-RU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D385-7167-437C-82FA-00033DCE86AC}" type="slidenum">
              <a:rPr b="0" lang="ru-RU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705A-4A36-4645-8E05-5494602F280A}" type="slidenum">
              <a:rPr b="0" lang="ru-RU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C45D-5296-4D64-AB9F-7A143E8DC66C}" type="slidenum">
              <a:rPr b="0" lang="ru-RU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hyperlink" Target="http://img.mota.ru/upload/wallpapers/2009/11/07/16/04/59/nature_049-1152x864.jpg" TargetMode="External"/><Relationship Id="rId4" Type="http://schemas.openxmlformats.org/officeDocument/2006/relationships/hyperlink" Target="http://img.mota.ru/upload/wallpapers/2009/11/07/16/04/59/nature_049-1152x864.jpg" TargetMode="External"/><Relationship Id="rId5" Type="http://schemas.openxmlformats.org/officeDocument/2006/relationships/hyperlink" Target="http://img.mota.ru/upload/wallpapers/2009/11/07/16/04/59/nature_049-1152x864.jpg" TargetMode="External"/><Relationship Id="rId6" Type="http://schemas.openxmlformats.org/officeDocument/2006/relationships/hyperlink" Target="http://img.mota.ru/upload/wallpapers/2009/11/07/16/04/59/nature_049-1152x864.jpg" TargetMode="External"/><Relationship Id="rId7" Type="http://schemas.openxmlformats.org/officeDocument/2006/relationships/hyperlink" Target="http://img.mota.ru/upload/wallpapers/2009/11/07/16/04/59/nature_049-1152x864.jpg" TargetMode="External"/><Relationship Id="rId8" Type="http://schemas.openxmlformats.org/officeDocument/2006/relationships/hyperlink" Target="http://img.mota.ru/upload/wallpapers/2009/11/07/16/04/59/nature_049-1152x864.jpg" TargetMode="External"/><Relationship Id="rId9" Type="http://schemas.openxmlformats.org/officeDocument/2006/relationships/hyperlink" Target="http://img.mota.ru/upload/wallpapers/2009/11/07/16/04/59/nature_049-1152x864.jpg" TargetMode="External"/><Relationship Id="rId10" Type="http://schemas.openxmlformats.org/officeDocument/2006/relationships/hyperlink" Target="http://img.mota.ru/upload/wallpapers/2009/11/07/16/04/59/nature_049-1152x864.jpg" TargetMode="External"/><Relationship Id="rId11" Type="http://schemas.openxmlformats.org/officeDocument/2006/relationships/hyperlink" Target="http://img.mota.ru/upload/wallpapers/2009/11/07/16/04/59/nature_049-1152x864.jpg" TargetMode="External"/><Relationship Id="rId12" Type="http://schemas.openxmlformats.org/officeDocument/2006/relationships/hyperlink" Target="http://img.mota.ru/upload/wallpapers/2009/11/07/16/04/59/nature_049-1152x864.jpg" TargetMode="External"/><Relationship Id="rId13" Type="http://schemas.openxmlformats.org/officeDocument/2006/relationships/hyperlink" Target="http://img.mota.ru/upload/wallpapers/2009/11/07/16/04/59/nature_049-1152x864.jpg" TargetMode="External"/><Relationship Id="rId14" Type="http://schemas.openxmlformats.org/officeDocument/2006/relationships/hyperlink" Target="http://img.mota.ru/upload/wallpapers/2009/11/07/16/04/59/nature_049-1152x864.jpg" TargetMode="External"/><Relationship Id="rId15" Type="http://schemas.openxmlformats.org/officeDocument/2006/relationships/hyperlink" Target="http://img.mota.ru/upload/wallpapers/2009/11/07/16/04/59/nature_049-1152x864.jpg" TargetMode="External"/><Relationship Id="rId16" Type="http://schemas.openxmlformats.org/officeDocument/2006/relationships/hyperlink" Target="http://img.mota.ru/upload/wallpapers/2009/11/07/16/04/59/nature_049-1152x864.jpg" TargetMode="External"/><Relationship Id="rId17" Type="http://schemas.openxmlformats.org/officeDocument/2006/relationships/hyperlink" Target="http://img.mota.ru/upload/wallpapers/2009/11/07/16/04/59/nature_049-1152x864.jpg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harmonyvl.ru/pricing/img/forest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hyperlink" Target="http://img1.liveinternet.ru/images/attach/c/1/48/906/48906883_kaban.jpg" TargetMode="Externa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0b5cc"/>
                </a:solidFill>
                <a:latin typeface="Georgia"/>
              </a:rPr>
              <a:t>Презентация</a:t>
            </a:r>
            <a:r>
              <a:rPr b="0" lang="ru-RU" sz="5000" spc="-1" strike="noStrike">
                <a:solidFill>
                  <a:srgbClr val="d4d4d6"/>
                </a:solidFill>
                <a:latin typeface="Georgia"/>
              </a:rPr>
              <a:t> </a:t>
            </a:r>
            <a:r>
              <a:rPr b="0" lang="ru-RU" sz="5000" spc="-1" strike="noStrike">
                <a:solidFill>
                  <a:srgbClr val="60b5cc"/>
                </a:solidFill>
                <a:latin typeface="Georgia"/>
              </a:rPr>
              <a:t>у уроку географии в 8 классе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00280" y="4857840"/>
            <a:ext cx="54295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иходеева Г.Н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читель географии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БОУ СОШ № 18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станицы Ивановской Красноармейского района           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Краснодарского края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33160" y="2714760"/>
            <a:ext cx="78548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Зона смешанных 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широколиственно-хвойных лесов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029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6378"/>
                </a:solidFill>
                <a:latin typeface="Georgia"/>
              </a:rPr>
              <a:t>Проверочная работа.</a:t>
            </a:r>
            <a:br>
              <a:rPr sz="3200"/>
            </a:br>
            <a:r>
              <a:rPr b="1" lang="ru-RU" sz="3200" spc="-1" strike="noStrike">
                <a:solidFill>
                  <a:srgbClr val="5a6378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5a6378"/>
                </a:solidFill>
                <a:latin typeface="Georgia"/>
              </a:rPr>
              <a:t>Установить соответствие.</a:t>
            </a:r>
            <a:endParaRPr b="0" lang="en-US" sz="32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60036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йга –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мешанный лес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израстают только хвойные деревь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сположены серые лесные почв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ильно изменены хозяйственной деятельностью челове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Климат мягкий, лето продолжительно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Занимает наибольшую площадь Росс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00720" y="1676520"/>
            <a:ext cx="400032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йга –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мешанный лес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Характерно очаговое расселени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Численность животных сильно сокращен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уровые климатические услович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т ярко выраженных надпойменных террас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лабая заболачиваемость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6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714240" y="2022840"/>
            <a:ext cx="7858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B%D0%B5%D1%81%D0%B0%20%D1%80%D0%BE%D1%81%D1%81%D0%B8%D0%B8%20%D1%84%D0%BE%D1%82%D0%BE&amp;stype=image&amp;noreask=1&amp;lr=35 -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а Росс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5"/>
              </a:rPr>
              <a:t>img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7"/>
              </a:rPr>
              <a:t>mota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9"/>
              </a:rPr>
              <a:t>ru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1"/>
              </a:rPr>
              <a:t>upload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3"/>
              </a:rPr>
              <a:t>wallpapers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4"/>
              </a:rPr>
              <a:t>/2009/11/07/16/04/59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5"/>
              </a:rPr>
              <a:t>nature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6"/>
              </a:rPr>
              <a:t>_049-1152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7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pg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 категория Леса и дере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6%D0%B8%D0%B2%D0%BE%D1%82%D0%BD%D1%8B%D0%B5%20%D0%BB%D0%B5%D1%81%D0%BE%D0%B2%20%D1%80%D0%BE%D1%81%D1%81%D0%B8%D0%B8&amp;stype=image&amp;noreask=1&amp;lr=35   -  Животные лесо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1000080" y="1071720"/>
            <a:ext cx="7143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дравствуй, лес, дремучий л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ный сказок и чуде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о чем шумишь листво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оч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ной, грозов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нам шепчешь на зар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ь в росе, как в сереб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 в глуши твоей та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за зверь? Какая пт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открой, не утаи!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же видишь, мы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. Погорел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http://bm.img.com.ua/img/prikol/images/large/3/4/66543_61142.jpg"/>
          <p:cNvPicPr/>
          <p:nvPr/>
        </p:nvPicPr>
        <p:blipFill>
          <a:blip r:embed="rId2"/>
          <a:stretch/>
        </p:blipFill>
        <p:spPr>
          <a:xfrm>
            <a:off x="428760" y="471492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www.drmahaki.com/wp/wp-content/uploads/2006/03/Lavizan.JPG"/>
          <p:cNvPicPr/>
          <p:nvPr/>
        </p:nvPicPr>
        <p:blipFill>
          <a:blip r:embed="rId3"/>
          <a:stretch/>
        </p:blipFill>
        <p:spPr>
          <a:xfrm>
            <a:off x="6429240" y="4786200"/>
            <a:ext cx="2357640" cy="1822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http://im8-tub-ru.yandex.net/i?id=42083839-40-7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5840" y="1071720"/>
            <a:ext cx="1857240" cy="17143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2431800" y="3960"/>
            <a:ext cx="26373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СТВЕННЫЙ Л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631440" y="14040"/>
            <a:ext cx="108612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i044.radikal.ru/1005/59/1ce92d7f0968.jpg"/>
          <p:cNvPicPr/>
          <p:nvPr/>
        </p:nvPicPr>
        <p:blipFill>
          <a:blip r:embed="rId2"/>
          <a:stretch/>
        </p:blipFill>
        <p:spPr>
          <a:xfrm>
            <a:off x="1143000" y="1357200"/>
            <a:ext cx="7286760" cy="464364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2" descr=""/>
          <p:cNvPicPr/>
          <p:nvPr/>
        </p:nvPicPr>
        <p:blipFill>
          <a:blip r:embed="rId2"/>
          <a:stretch/>
        </p:blipFill>
        <p:spPr>
          <a:xfrm>
            <a:off x="1133640" y="281160"/>
            <a:ext cx="7608600" cy="798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http://www.miller-mccune.com/wp-content/uploads/2010/01/mmw_oldgrowth.jpg"/>
          <p:cNvPicPr/>
          <p:nvPr/>
        </p:nvPicPr>
        <p:blipFill>
          <a:blip r:embed="rId3"/>
          <a:stretch/>
        </p:blipFill>
        <p:spPr>
          <a:xfrm>
            <a:off x="1000080" y="1428840"/>
            <a:ext cx="7358040" cy="442908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1071720" y="23400"/>
            <a:ext cx="70722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, точно терем распис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ловый, золотой, багря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елой, пестрою сте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ит над светлою поля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ерезы желтою резьб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лестят в лазури голуб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вышки, елочки темнею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между кленами сине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 там, то здесь в листве сквоз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веты в небо, что око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 пахнет дубом и сос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лето высох он от солн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сень тихою вд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упает в пестрый терем с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2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444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http://www.nikblo.ru/P/p60.jpg"/>
          <p:cNvPicPr/>
          <p:nvPr/>
        </p:nvPicPr>
        <p:blipFill>
          <a:blip r:embed="rId3"/>
          <a:stretch/>
        </p:blipFill>
        <p:spPr>
          <a:xfrm>
            <a:off x="1214280" y="1500120"/>
            <a:ext cx="6929640" cy="46609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500040" y="857160"/>
          <a:ext cx="8001000" cy="54262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4874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йные л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айг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ые л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ошная полоса. Занимает большую площад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имеет сплошного распростран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ренный рельеф, нет надпойменных терра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ный рельеф: моренный рельеф, пологие котловины, надпойменные терр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овые климатические 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приятные климатические услов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та поверхностными и грунтовыми водами. Заболочение. Многолетняя мерзлота. &gt;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та поверхностями и грунтовыми водами. Заболочена меньше. Нет многолетней мерзл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листые  почвы + мерзлотно-таежны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ново-подзолистые серые лесные почв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йные породы деревье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венные + хвойные поро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видов млекопитающих. Пушные звери (соболь, норка, куница, белка, выдра). Семеноядные птицы. Очаговое рас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ные звери (лисица, белка, куница, енотовидная собака, горностай, лесной хорь). Много семеноядных птиц. Сильно истреблены человек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0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опромысловое хозяйство. Разведение молочного и мясо-молочного крупного рогатого скота. Юг – земледелие (рожь, ячмень, лен, картофель, овощи, кормовые травы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стая сеть городских и сельских поселений. Выборочное земледельческое освоение (рожь, ячмень, пшеница, сахарная свекла, картофель, кормовые травы, ягоды). Мясо-молочное животноводство и свиноводство, птицеводство, пчеловодство. Пригородный тип с/х. Лесопромысловое хозяйство развито слабе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2"/>
          <a:stretch/>
        </p:blipFill>
        <p:spPr>
          <a:xfrm>
            <a:off x="450720" y="493560"/>
            <a:ext cx="8321760" cy="725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www.tvoyrebenok.ru/images/animals/116.1.jpg"/>
          <p:cNvPicPr/>
          <p:nvPr/>
        </p:nvPicPr>
        <p:blipFill>
          <a:blip r:embed="rId3"/>
          <a:stretch/>
        </p:blipFill>
        <p:spPr>
          <a:xfrm rot="19429200">
            <a:off x="1571400" y="1428840"/>
            <a:ext cx="1752480" cy="1643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Картинка 3 из 1299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43200" y="1428840"/>
            <a:ext cx="220356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http://basik.ru/images/2415/47.jpg"/>
          <p:cNvPicPr/>
          <p:nvPr/>
        </p:nvPicPr>
        <p:blipFill>
          <a:blip r:embed="rId6"/>
          <a:stretch/>
        </p:blipFill>
        <p:spPr>
          <a:xfrm rot="1873800">
            <a:off x="6588000" y="1456920"/>
            <a:ext cx="1881360" cy="1411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http://stat17.privet.ru/lr/0a04a181344c883dbe796cb728191892"/>
          <p:cNvPicPr/>
          <p:nvPr/>
        </p:nvPicPr>
        <p:blipFill>
          <a:blip r:embed="rId7"/>
          <a:stretch/>
        </p:blipFill>
        <p:spPr>
          <a:xfrm>
            <a:off x="2143080" y="5000760"/>
            <a:ext cx="2006640" cy="135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http://www.ebftour.ru/images/load/Image/18(42).jpg"/>
          <p:cNvPicPr/>
          <p:nvPr/>
        </p:nvPicPr>
        <p:blipFill>
          <a:blip r:embed="rId8"/>
          <a:stretch/>
        </p:blipFill>
        <p:spPr>
          <a:xfrm rot="20124000">
            <a:off x="1285920" y="3428640"/>
            <a:ext cx="1996920" cy="1500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http://stat16.privet.ru/lr/0b0b93eabfaf370a8211f11b7540ae40"/>
          <p:cNvPicPr/>
          <p:nvPr/>
        </p:nvPicPr>
        <p:blipFill>
          <a:blip r:embed="rId9"/>
          <a:stretch/>
        </p:blipFill>
        <p:spPr>
          <a:xfrm rot="1383000">
            <a:off x="6286320" y="3285720"/>
            <a:ext cx="2038320" cy="1357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http://www.forumimage.ru/uploads/20091030/125688203656458484.jpg"/>
          <p:cNvPicPr/>
          <p:nvPr/>
        </p:nvPicPr>
        <p:blipFill>
          <a:blip r:embed="rId10"/>
          <a:stretch/>
        </p:blipFill>
        <p:spPr>
          <a:xfrm>
            <a:off x="4214880" y="2857680"/>
            <a:ext cx="1473120" cy="2214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6" descr="http://www.peaceinpractice.iinet.net.au/images/wolfs.jpg"/>
          <p:cNvPicPr/>
          <p:nvPr/>
        </p:nvPicPr>
        <p:blipFill>
          <a:blip r:embed="rId11"/>
          <a:stretch/>
        </p:blipFill>
        <p:spPr>
          <a:xfrm>
            <a:off x="4952880" y="5000760"/>
            <a:ext cx="2106720" cy="158256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493560" y="706320"/>
            <a:ext cx="839484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428760" y="2071800"/>
          <a:ext cx="8215200" cy="3933720"/>
        </p:xfrm>
        <a:graphic>
          <a:graphicData uri="http://schemas.openxmlformats.org/drawingml/2006/table">
            <a:tbl>
              <a:tblPr/>
              <a:tblGrid>
                <a:gridCol w="2214360"/>
                <a:gridCol w="6000840"/>
              </a:tblGrid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Кр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войно-витаминная мука, лекарственны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Сучь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Щепа для производства картона и древесных пл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К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убильные вещества, наполнители строительных бло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Ств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иломатериалы, шпалы, крепления для шахт, опоры для линий связи и электропередачи. целлюлоза. бумага, этиловый спирт, мебель, фанера, кормовые дрожжи, строения, спички, карандаши, лыжи, музыкальные инструмен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Пень и кор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ифоль, скипидар, камфара, фурфуро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7:06:36Z</dcterms:created>
  <dc:creator>пользователь</dc:creator>
  <dc:description/>
  <dc:language>en-US</dc:language>
  <cp:lastModifiedBy>КарМаН</cp:lastModifiedBy>
  <dcterms:modified xsi:type="dcterms:W3CDTF">2012-03-20T02:00:49Z</dcterms:modified>
  <cp:revision>80</cp:revision>
  <dc:subject/>
  <dc:title>Слайд 1</dc:title>
</cp:coreProperties>
</file>